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wmf" ContentType="image/x-wmf"/>
  <Override PartName="/ppt/media/image16.wmf" ContentType="image/x-wmf"/>
  <Override PartName="/ppt/media/image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9.jpeg" ContentType="image/jpeg"/>
  <Override PartName="/ppt/media/image17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9A9-A42C-4913-8117-35DF2619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AB9-0CBF-4EBB-9915-BFC5F32A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E5B-3C7E-431A-B9E6-5794F434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603-3FFD-4EFD-BC87-B389507A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02C-21D3-4CFA-9913-07508EA9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E83-3FB0-4E9F-B9ED-C5EC2F61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D65-8DE4-4662-A110-34429728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8CA-D853-48D0-9CF7-586ECA32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1522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E4A-C407-4CEB-AE8B-DDD24631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7C9-6596-472A-B861-43B448E1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124-D27F-445E-AC0F-00743787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B8F-3891-4DF4-A91B-D72C559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49DA-B8A3-4427-9300-9ED94B6F9E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mg_thirsty"/>
          <p:cNvPicPr/>
          <p:nvPr/>
        </p:nvPicPr>
        <p:blipFill>
          <a:blip r:embed="rId1"/>
          <a:srcRect l="0" t="0" r="0" b="31202"/>
          <a:stretch/>
        </p:blipFill>
        <p:spPr>
          <a:xfrm>
            <a:off x="0" y="0"/>
            <a:ext cx="9220320" cy="368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28600" y="310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Bar Crawl Optimizati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y El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d Do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 L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y Kornf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Model Set-U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Model Set-up Choosing 9 Bars on a 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7619760" cy="2793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25146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Solver Inpu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 Evolutionary Solver to Determine Bar Crawl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36722" t="21875" r="24220" b="46875"/>
          <a:stretch/>
        </p:blipFill>
        <p:spPr>
          <a:xfrm>
            <a:off x="2209680" y="2819520"/>
            <a:ext cx="4445280" cy="2666880"/>
          </a:xfrm>
          <a:prstGeom prst="rect">
            <a:avLst/>
          </a:prstGeom>
          <a:ln w="28440">
            <a:solidFill>
              <a:srgbClr val="ffad5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Data Outpu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r Found the Optimal Rou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2296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Solution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3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al Bar Crawl Rou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28600" y="2438280"/>
            <a:ext cx="259092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ick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276720" y="2438280"/>
            <a:ext cx="259056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r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324480" y="2438280"/>
            <a:ext cx="259092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ick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sea_beer_tapsDSCF4985"/>
          <p:cNvPicPr/>
          <p:nvPr/>
        </p:nvPicPr>
        <p:blipFill>
          <a:blip r:embed="rId1"/>
          <a:stretch/>
        </p:blipFill>
        <p:spPr>
          <a:xfrm>
            <a:off x="6553080" y="4465800"/>
            <a:ext cx="2210040" cy="147780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pic>
        <p:nvPicPr>
          <p:cNvPr id="111" name="Picture 9" descr="walking"/>
          <p:cNvPicPr/>
          <p:nvPr/>
        </p:nvPicPr>
        <p:blipFill>
          <a:blip r:embed="rId2"/>
          <a:srcRect l="3450" t="0" r="48966" b="0"/>
          <a:stretch/>
        </p:blipFill>
        <p:spPr>
          <a:xfrm>
            <a:off x="3048120" y="4648320"/>
            <a:ext cx="3047760" cy="117000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pic>
        <p:nvPicPr>
          <p:cNvPr id="112" name="Picture 10" descr="calendar2"/>
          <p:cNvPicPr/>
          <p:nvPr/>
        </p:nvPicPr>
        <p:blipFill>
          <a:blip r:embed="rId3"/>
          <a:srcRect l="0" t="0" r="0" b="7961"/>
          <a:stretch/>
        </p:blipFill>
        <p:spPr>
          <a:xfrm>
            <a:off x="457200" y="4419720"/>
            <a:ext cx="2209680" cy="152388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sp>
        <p:nvSpPr>
          <p:cNvPr id="113" name="Rectangle 12"/>
          <p:cNvSpPr/>
          <p:nvPr/>
        </p:nvSpPr>
        <p:spPr>
          <a:xfrm>
            <a:off x="457200" y="4419720"/>
            <a:ext cx="2286000" cy="1523880"/>
          </a:xfrm>
          <a:prstGeom prst="rect">
            <a:avLst/>
          </a:prstGeom>
          <a:solidFill>
            <a:srgbClr val="ffad5b"/>
          </a:solidFill>
          <a:ln w="936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3048120" y="4648320"/>
            <a:ext cx="3047760" cy="1218960"/>
          </a:xfrm>
          <a:prstGeom prst="rect">
            <a:avLst/>
          </a:prstGeom>
          <a:solidFill>
            <a:srgbClr val="ffad5b"/>
          </a:solidFill>
          <a:ln w="936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ool-Swift-Stoned Crow-Leela Lounge-1849-Red Lion-Bar 13-Pinch-Josie Woods-Phebe’s-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6553080" y="4419720"/>
            <a:ext cx="2286000" cy="1523880"/>
          </a:xfrm>
          <a:prstGeom prst="rect">
            <a:avLst/>
          </a:prstGeom>
          <a:solidFill>
            <a:srgbClr val="ffad5b"/>
          </a:solidFill>
          <a:ln w="936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Drinking Advi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model to start at Stern and end at your a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in bonus points for bars with more single attractive men and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 savings if the happy hour includes wings and mozzarella st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beer_wall"/>
          <p:cNvPicPr/>
          <p:nvPr/>
        </p:nvPicPr>
        <p:blipFill>
          <a:blip r:embed="rId1"/>
          <a:srcRect l="3095" t="3029" r="2062" b="3058"/>
          <a:stretch/>
        </p:blipFill>
        <p:spPr>
          <a:xfrm>
            <a:off x="2209680" y="0"/>
            <a:ext cx="7010640" cy="4724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522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04920" y="2697120"/>
            <a:ext cx="8001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Managerial Proble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est bar crawl rou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est Villag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beer_poster"/>
          <p:cNvPicPr/>
          <p:nvPr/>
        </p:nvPicPr>
        <p:blipFill>
          <a:blip r:embed="rId1"/>
          <a:stretch/>
        </p:blipFill>
        <p:spPr>
          <a:xfrm>
            <a:off x="4624560" y="1219320"/>
            <a:ext cx="4290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Decision Variabl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Total Sav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8600" y="2438280"/>
            <a:ext cx="259092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76720" y="2438280"/>
            <a:ext cx="259056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r Fi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ou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324480" y="2438280"/>
            <a:ext cx="259092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H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ea_beer_tapsDSCF4985"/>
          <p:cNvPicPr/>
          <p:nvPr/>
        </p:nvPicPr>
        <p:blipFill>
          <a:blip r:embed="rId1"/>
          <a:stretch/>
        </p:blipFill>
        <p:spPr>
          <a:xfrm>
            <a:off x="6553080" y="4465800"/>
            <a:ext cx="2210040" cy="147780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pic>
        <p:nvPicPr>
          <p:cNvPr id="54" name="Picture 10" descr="walking"/>
          <p:cNvPicPr/>
          <p:nvPr/>
        </p:nvPicPr>
        <p:blipFill>
          <a:blip r:embed="rId2"/>
          <a:srcRect l="3450" t="0" r="48966" b="0"/>
          <a:stretch/>
        </p:blipFill>
        <p:spPr>
          <a:xfrm>
            <a:off x="3048120" y="4648320"/>
            <a:ext cx="3047760" cy="117000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pic>
        <p:nvPicPr>
          <p:cNvPr id="55" name="Picture 11" descr="calendar2"/>
          <p:cNvPicPr/>
          <p:nvPr/>
        </p:nvPicPr>
        <p:blipFill>
          <a:blip r:embed="rId3"/>
          <a:srcRect l="0" t="0" r="0" b="7961"/>
          <a:stretch/>
        </p:blipFill>
        <p:spPr>
          <a:xfrm>
            <a:off x="457200" y="4419720"/>
            <a:ext cx="2209680" cy="152388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The Missi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ng the West Vil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>
            <a:lum contrast="-6000"/>
          </a:blip>
          <a:srcRect l="40628" t="44795" r="22500" b="16252"/>
          <a:stretch/>
        </p:blipFill>
        <p:spPr>
          <a:xfrm>
            <a:off x="2819520" y="2362320"/>
            <a:ext cx="5410080" cy="342900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sp>
        <p:nvSpPr>
          <p:cNvPr id="59" name="AutoShape 7"/>
          <p:cNvSpPr/>
          <p:nvPr/>
        </p:nvSpPr>
        <p:spPr>
          <a:xfrm>
            <a:off x="4800600" y="36576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6324480" y="2971800"/>
            <a:ext cx="38124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5410080" y="4343400"/>
            <a:ext cx="38124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7086600" y="22860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4648320" y="41148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7162920" y="48006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7315200" y="48006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5257800" y="54864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6172200" y="441972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5562720" y="52578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4952880" y="3429000"/>
            <a:ext cx="38124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5105520" y="36576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9"/>
          <p:cNvSpPr/>
          <p:nvPr/>
        </p:nvSpPr>
        <p:spPr>
          <a:xfrm>
            <a:off x="4648320" y="304812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4572000" y="41148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1"/>
          <p:cNvSpPr/>
          <p:nvPr/>
        </p:nvSpPr>
        <p:spPr>
          <a:xfrm>
            <a:off x="5486400" y="373392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4572000" y="358128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beer_bucket"/>
          <p:cNvPicPr/>
          <p:nvPr/>
        </p:nvPicPr>
        <p:blipFill>
          <a:blip r:embed="rId1"/>
          <a:srcRect l="0" t="7027" r="0" b="0"/>
          <a:stretch/>
        </p:blipFill>
        <p:spPr>
          <a:xfrm>
            <a:off x="5257800" y="2336760"/>
            <a:ext cx="3886200" cy="452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63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olver to find the bar crawl route that maximizes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Assu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start and end at S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ust walk to each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only drink b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cost to w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save by hitting happy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off even between distance and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Assump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33520" y="1295280"/>
            <a:ext cx="8001000" cy="1067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ile walked costs $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3520" y="2590920"/>
            <a:ext cx="800100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Cost of a Beer is $6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NYC_taxi"/>
          <p:cNvPicPr/>
          <p:nvPr/>
        </p:nvPicPr>
        <p:blipFill>
          <a:blip r:embed="rId1"/>
          <a:srcRect l="3001" t="23204" r="2104" b="17544"/>
          <a:stretch/>
        </p:blipFill>
        <p:spPr>
          <a:xfrm>
            <a:off x="609480" y="1447920"/>
            <a:ext cx="2210040" cy="8665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533520" y="3886200"/>
            <a:ext cx="800100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Crawls Start at Noon and End at 8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33520" y="5181480"/>
            <a:ext cx="8001000" cy="1067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nly Go To Each Bar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85800" y="501336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clock"/>
          <p:cNvPicPr/>
          <p:nvPr/>
        </p:nvPicPr>
        <p:blipFill>
          <a:blip r:embed="rId2"/>
          <a:srcRect l="0" t="0" r="0" b="7138"/>
          <a:stretch/>
        </p:blipFill>
        <p:spPr>
          <a:xfrm>
            <a:off x="590400" y="3886200"/>
            <a:ext cx="100980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beer_pint"/>
          <p:cNvPicPr/>
          <p:nvPr/>
        </p:nvPicPr>
        <p:blipFill>
          <a:blip r:embed="rId3"/>
          <a:stretch/>
        </p:blipFill>
        <p:spPr>
          <a:xfrm>
            <a:off x="762120" y="2666880"/>
            <a:ext cx="777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Constraint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Evolutionary Solver to maximiz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only visit each bar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r must choose from bar #s 1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 number choices must be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Data Set U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s from bar to bar and bar to 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4771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Data Inpu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d Savings Using Happy Hour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914400" y="2711520"/>
            <a:ext cx="735660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4:25:50Z</dcterms:created>
  <dc:creator>Amy</dc:creator>
  <dc:description/>
  <dc:language>en-US</dc:language>
  <cp:lastModifiedBy>Brad Doyle</cp:lastModifiedBy>
  <dcterms:modified xsi:type="dcterms:W3CDTF">2008-04-28T13:50:43Z</dcterms:modified>
  <cp:revision>54</cp:revision>
  <dc:subject/>
  <dc:title>Bar Crawl Optimization</dc:title>
</cp:coreProperties>
</file>